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4DC-008B-498E-81C6-51A9D45A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D20-4DB6-400F-AEAF-AED6F0A9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872-0CE4-487D-9ED1-15D6B02B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A58-1DD6-460C-ACD9-0868459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245-6509-4BDF-8607-5A8CAE13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FE7-B707-4468-9733-24AE382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FC42-62D3-4F12-8C40-DE97B92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808A-BB5C-47D7-8D93-82A4AAC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EA65-76B0-4EF1-BDFB-A3670C1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8EB1-1158-4580-8E32-72B7D4F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DB5-EDDC-4664-9805-1CD8336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946-7B3B-4901-B185-12BBC9E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068-B47C-4C6E-BB15-4A2C4D9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37D9-B00B-46FA-8364-D7429A0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BD69-7F01-40B2-8646-26479491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ACD-FBFD-4A84-9ED7-AA796A2E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DE05-8E4B-4261-BECA-4C32A9AD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C692-A95A-4B70-8EAF-E314829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DE84-F68B-4E84-8F10-7707EA47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0EAB-9912-4698-8330-2F977EE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0F37-7BD2-49D2-BB90-7B84C52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92AE-5703-4175-8DCD-3AB32AC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3A2-2CEE-40EC-983C-E1250D62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398E-1803-408E-96AD-F50D752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F494-65FD-4F15-9F79-245DE32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4EB3-B23A-4937-824B-7859FAD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DDEF-3333-4D45-B1AB-E9F6AA75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BFEA-33C0-4E5E-8640-4D83CED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D49E-9B7F-42D5-BD95-CB6D3DF2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921A-A3A3-4B0C-AFD1-EE5E3659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0E58-1087-4DC3-A3C2-BBB8466F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1753-69D8-4932-B385-D1BB2C8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F5FF-A0EF-4897-B421-8568C50B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B5E-F9FE-4468-BBE1-7636227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6CB55-2697-4BF7-89E6-8F7BB99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BBEB-FC9A-4432-8862-681D890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BF1E-1861-4D6E-8D7C-0E72F8ED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E14F-83BD-4013-8ACD-EF451EE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02B0-B9B9-4D44-8E26-E98BA18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8286-A40D-42BC-B7AE-8827D36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D456-C6DF-417B-83AF-42ABCB2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7EA8-2DCE-447D-A61C-88EAC377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1438-BA84-4FDF-A8D9-ACDF7BD8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FDA-613A-4135-B479-7B32980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34B-F9D3-4F68-A3EF-38184899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4CD-3BFD-45AE-B200-39AD000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793-9F9A-4D61-9420-782AA05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278-5897-4B12-9D21-FC9E8E9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A8AE-4C16-4991-9E08-89D82EF762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344-37AA-4582-BADD-69084A555A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F1F-FC18-4168-AAE9-8B5458A57C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3AD-0420-4100-A6A5-3BBF45B89E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osc.noaa.gov/docs/products/NOAA_Procedure_document_final_12-16-1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463680"/>
            <a:ext cx="8461440" cy="3717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2257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d Kea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ional Climatic Data Cen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heville, N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nndcright.gif"/>
          <p:cNvPicPr/>
          <p:nvPr/>
        </p:nvPicPr>
        <p:blipFill>
          <a:blip r:embed="rId2"/>
          <a:stretch/>
        </p:blipFill>
        <p:spPr>
          <a:xfrm>
            <a:off x="6324480" y="5638680"/>
            <a:ext cx="2000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ve and Ac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chives preserve data, make them accessible in meaningful ways , and ensure their information remains available for future gener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changes in technology and observing systems are anticipat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kinds of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hould be archived in the fu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can the Data Centers do to prep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ve Responsibil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cept information from Data Produc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ercise sufficient control to ensure long-term preservation  and access (stewardshi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sures the information to be preserved is independently understandable  and accessible now and in the fu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llow policies and procedures that ensure the information is preserved against all reasonable contingen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 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al Storage: Paper, Tapes, Spinning D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uture: solid stat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ultimately  fragi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urity though redunda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ple copies, distributed syste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: high speed internet, physical media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tributed systems, multiple access poi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formats:  facilitate access, self describing, metadata st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ess tools that serve data to a variety of audi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ata can be expected to be well-cared for….but what about the inform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archiv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AA Observing Systems Counc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osc.noaa.gov/docs/products/NOAA_Procedure_document_final_12-16-1.pd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ume of Observations : NCDC stores 3.5 PB to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POESS, next-gen NEXRAD : several PB per year incre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l outputs : archive them if not easily reproduc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 for how long? Shelf life of synthetic data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rived products : process raw records to higher lev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imate Data Records  (CD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imate  Information Records (CI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DR and C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mate Data Records (CDRs) are the essential long term records for climate studies and assess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DRs require updates as our knowledge of the observing systems and science impro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chived data must be revisited, reproce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mate Information Records (CIRs) are derived from and directly dependent upon CD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level CIRs will be found more useful by a larger number of user commun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ater managers, energy industry, ecosystem manag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Rs place more emphasis on access and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ent 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lly track associations between the archived information and its users an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an aggregate value of the info for our socie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 a 2-way relationship between info and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a context for the information for future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 more information to broader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 reliance on hierarchal systems and more on networked systems – ideally a blend of the tw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ster transitions from research to ope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oughts and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out history, significant information breakthroughs have brought about social and/or technological revolu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literac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urvival of archives across generations has been a political issue, not a technical or physical iss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chives must serve society to stay relevant – so what does society want from our archiv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43:45Z</dcterms:created>
  <dc:creator>Government Employee</dc:creator>
  <dc:description/>
  <dc:language>en-US</dc:language>
  <cp:lastModifiedBy>Government Employee</cp:lastModifiedBy>
  <dcterms:modified xsi:type="dcterms:W3CDTF">2009-01-06T13:47:58Z</dcterms:modified>
  <cp:revision>111</cp:revision>
  <dc:subject/>
  <dc:title>Data Stewardship at the NOAA Data Centers : Long Term Archive and Access</dc:title>
</cp:coreProperties>
</file>